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5ED3-9305-4C6F-802C-C93F8C02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1B2-A71C-4C28-A432-ED50B1DC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142-C4AE-4883-9547-5F84A99F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0A6-B1E4-4B62-9FB9-8CEB84BD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197F-C73D-4F54-BEDB-4316BCC9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1AB4-E1B0-4B83-B64C-FE96E490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540B-BCD8-4C25-98F9-9C04EBC8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EA9C-AE43-4261-8440-FD9BDE5E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0A87-30A1-4868-9785-13B6F71C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FDDE-491F-47D1-9854-1B83CC9C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236B-2FC8-4B50-8A48-4F758D98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C05-45AE-458E-85DA-D9E87447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4EFA-5BCE-4768-8B31-B65E838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4AF4-D0AC-48FB-8748-4B31E884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3625-50DB-4D8F-8453-3B3A53FE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8F70-3F79-412E-9A56-F2A81674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1D04-FF04-4C2F-B9F8-B9C6350D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F19-FABF-4CE1-9973-11B895B7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C48-F18C-4919-8065-61B278EE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17E-07B7-43B2-91DA-610041F6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CA9-8D66-4215-B934-2988EFE6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C367-A970-433F-8EB8-C9AB1E2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7F3-B3FC-4675-9328-3B3D528E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D74-18E5-42E9-ABB1-10B4AB00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A583-112F-4C4F-A011-5181F4ECF1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8447-9567-40CB-A855-DCB0534AB9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-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 водителей тоже притуп-ляется внимание, и они едут быстрее обычного, не предполагая появления пе-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е дороги часто стано-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-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-ходы. От большого ко-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Опасные дорожные ситуации – дорожные “ловушки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95% дорожно-транспортных происшествий с детьми случаются примерно в 30 повторяющихся дорожных ситуациях – “ловушках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Дорожная ловушка”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это ситуация на дороге со скрытой  опасностью, к тому же незамеченной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54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зоне остановки в ДТП попадает  треть пострадав-ших детей, в ос-новном из-за стоя-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038480" y="213372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260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ОСТАНОВКА ЭТО ВАЖНАЯ ЧАСТЬ Д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4211640" cy="3054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748040" y="2349360"/>
            <a:ext cx="4395960" cy="3024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5530320"/>
            <a:ext cx="7534440" cy="1015560"/>
          </a:xfrm>
          <a:prstGeom prst="roundRect">
            <a:avLst>
              <a:gd name="adj" fmla="val 16593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остановке никогда нельзя стоять у кромки тротуара. Тебя нечаянно могут толкнуть, и ты окажешься под коле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371628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6920" y="3357720"/>
            <a:ext cx="1297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95280" y="4941720"/>
            <a:ext cx="917640" cy="1700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850320"/>
            <a:ext cx="8212320" cy="1320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ать автобус, троллейбус или трамвай нужно только на остановках – местах, обозначенных такими знаками, как на рисунках. А там, где их нет– на тротуаре. В сельской местности, если нет оборудованной остановки, автобус ждут на обочине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-ван к интересую-щему его предмету – автобус на другой стороне дороги, при-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 дорожным “ловуш-кам” могут привести и еще два изобрете-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1-22T13:29:4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